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74A-D424-44D7-909B-2662EE99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650A-60CE-4116-9BB1-33DB830E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C3450-6665-4AEB-9273-EF810491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C822B-3005-47D6-B22E-7C792E0F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677D9-65E7-43E8-9034-6392E7D7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2D335-9CB8-4313-95E8-84EECE4C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DF18C-3FE6-4ED5-B33A-25E7F13C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97273-2A32-4E07-964A-0C264CFA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B4418-5CFE-4A55-A7BA-9ACCAF7D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E6E08-DEF2-402C-99BA-520792A3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1149E-CB53-4D44-BAFE-FBBE6F89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90E66-DD67-479A-B603-808FA4B2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B8A-C1B5-45EF-84C7-CFE35053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B5935-6250-41DD-88B2-BC51C091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24914-3844-4878-8924-7B555A3E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57B09-0E0D-484D-8FEE-4DFA9787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5DC88-C94E-470C-A627-9A8137B8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A010E-1722-47D0-ADEF-E05926F2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021E9-3AFA-465E-81B6-D8EFE724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5A244-91B7-4733-B03E-B618E516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A5BB5-74AC-482A-A1B6-735EF6CC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72464-3183-4204-8730-CFB1C564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776A3-5ABF-4973-BCF2-75E2C4C1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E08-7E6A-4B27-95EC-F423C420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07648-FEC3-4D27-8DF0-30635557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9FBF-7529-4B0A-B292-13F47EB4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A2A7-F421-4779-B46E-63C3C092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AF13-E25A-430C-AA98-D582BF21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7761-68A2-4EF5-BD45-8AB18E8D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6532-000F-47D7-8D7F-D58F32B3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CCCE-6EA8-4725-B3EA-56A0743F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ACA2-CCE2-40A2-94AB-3CC0FBF8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B6F8-1013-44AE-9EF0-0E8DBBC1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9C5E-4CFB-44C7-A76D-3EE16C63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187C-03B1-4180-ABC7-35EB3C1A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192C-0269-4EE6-92B2-E5646A55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0E1C-9C9F-451F-BC6F-E5BFB573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3833-C83F-4A12-A681-0C9373B1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B399A-C808-421E-9610-F48C5D46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D81CD-D40D-4FB1-B8AE-F42D2D83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24CA3-7B7D-40E0-BD79-9D217C28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C3CE6-DD7C-4F79-AFD0-5D02FB79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185DA-2E9C-4F90-8AFD-AD3BDBC2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26A-A583-44F1-B36E-D6F836C6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DBA3E-68D7-4E1E-AC22-20AE3F57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61384-527C-4AD4-B1F7-9E525960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52518-E3A3-4EA0-BA20-53805B7A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019CE-2362-42A9-A5AF-47043CFD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0FF1F-8BD5-47D7-8F67-12434514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22CB2-52ED-4D03-B71F-CEA4B398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A669B-008F-4BD2-BD90-8750C415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59C99-7D21-4737-A317-5AC87E99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13737-C3FC-48D7-B0B5-CA219904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5E97B-C5BF-4E02-9319-27F5DA33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892-0B70-4402-8497-8C3E92C7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F6176-8D84-459D-B5FF-24B6E545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857D7-FDFE-431B-8569-AD39570A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1BAB8-8D8F-47AA-B2AE-66822355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ED59F-4FCF-4499-8695-CF28714F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8C263-E1A6-4A31-826A-DFA40A6F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778BB-5DAE-48B2-8E49-C6AF0BD6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04C9F-A7B9-4A3A-B516-BFDB0E31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33DF1-0FF4-4779-A1A7-29A3BB3F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4E96D-3423-4C27-B598-ABDF296F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64027-470D-47F3-A9DD-0578F3C6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131A-CCB4-4507-9AA2-CBAE642B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431D6-505A-4E9F-9A17-0E14BDA7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6D591-01CF-4BAC-B3EC-D2C03A5E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11D2E-434A-4754-9116-E9109794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463D4-C7B9-4204-9D2F-72957647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3C688-1D1F-447B-8ECA-385CAD8D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A1439-E095-44B4-BD66-376AE9F7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57624-DED4-4E5D-9C97-74D78E99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CC6D9-06C9-4665-BC02-DDB6CBE4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91749-52AB-4D81-9888-3B6471A8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2ED96-EA80-4E12-89A8-84E05733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236-96C5-4981-BFCA-28DF65D2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7FEFC-6C46-4B73-A95F-CA8210D2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A8C09-0481-489A-A061-ACA8CD65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FEBD3-0E09-4372-A4C4-6ED0C12B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465D0-66A1-4AAB-8EF4-B56BDD5D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8F5FB-A194-4F9E-967D-96E72CC6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2E62D-60A0-4649-9C59-243CF006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96BDA-1394-49BF-9EA2-82D8FB35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1D034-376D-4D54-9913-A3F4D1E0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C6B3F-9D70-4E63-A9A2-CF9DA9C1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5EE4B-271A-404C-A8BD-FE501A5B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3A0-1936-4596-8951-B64F329C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49B09-3962-429C-ABB0-CA3F3DB5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F0DEE-8744-4B83-A39D-5EB963AA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74AFB-F5AD-4365-8CC2-87399617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0B381-6467-49BD-AFA9-A0E96FB3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3D03B-9456-4A52-8EE6-FCCBDE3B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C321F-976D-49F9-9EF0-B7C6D444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5F5BB-008A-49C0-B029-0D521657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F9DA6-237F-4BCA-90DC-7C0AE3D6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FF806-6879-49E9-9BF1-BBB962B6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7BBEE-7D06-4482-B809-A59F1B46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5E7-D72F-44AE-9C51-C5AB2F93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5CED0-0961-48EF-9D60-AFA9C020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0EEE2-6E83-4D02-8D4C-DEC4D21A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EB4A8-6B34-46A5-9D75-C072A099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A148C-6EC0-44F9-AEB7-483D9FE4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0518E-12EF-4384-AB17-E1D0E831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6C720-8BB0-4A95-B98A-5B9F9D14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A4813-51C1-4478-8FFD-FB1C32AC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A94E7-3AF3-4AE1-AB57-13098CC9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3FF69-625B-4056-9BFF-B8A0E695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8A35F-6FE6-4E8D-946E-7E6AA6A9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977-F4BF-4926-B3FE-E09F3B92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5CB59-08E6-465D-9549-72278774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5FB17-0EF9-4ADB-9DDD-B0B64C8A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48A1D-3C32-46AF-ADE6-317E7E79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71D0A-B527-4108-B365-17EC8745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50505-58B6-4E9A-AAEC-D14857EE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ED1C1-88F3-4FCC-8827-1862D5D6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97ADD-2439-40AE-89D8-A7669850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BF4CD-A104-41FA-9AAE-D61AF0DB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9D7FB-4C76-42F4-864B-49AB6DD8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B1247-536C-488D-9855-08A5F5F7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1BE9-E49E-4953-9701-B09C71CA154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CEEE-DCA2-47C8-8D1C-36E320D9632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8EA1-ADAE-43A7-A7B3-0C5AB395E44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54FF-B3DD-4591-A730-83675758646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C9FF-2BA9-4724-AE61-6E9F53DE74F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BE91-56CA-4DF6-B997-3FAC60823FF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DDEC-A771-467A-B24E-F43E7ADE139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9DEC-449C-4677-962B-6DD059E1C57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9313-710C-4EA7-A1A4-86251776513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6918-960F-4A0B-B34A-104D8B9457D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Ad9rT2Waw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Consonant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닿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 and vowel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홑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4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ㄴ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l/r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ch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k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vowel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ㅑ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ㅕ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ㅗ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ㅛ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ㅜ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i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097280" indent="-2192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ㅕ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ㅛ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re iotized ones of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ㅜ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respectively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5 double 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ㄲ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ㅃ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ㅆ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ㅉ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consonant cluster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ㄳ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ㄵ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ㄶ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ㄺ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ㄻ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ㄽ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ㄾ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ㄿ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ㅄ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diphthong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ㅒ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ㅖ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ㅘ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ㅙ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ㅚ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ㅝ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ㅞ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ㅟ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ㅢ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erlin Sans FB"/>
                <a:ea typeface="굴림"/>
              </a:rPr>
              <a:t>Morpho-Syllabic Blocks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initial: consonants or double consona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medial: vowels (simple, combined (inlcuding diphthongs), iotized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final: consonants, double consonants, clustered consonant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HANGUL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(Letters)</a:t>
            </a:r>
            <a:endParaRPr b="1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re Reading Practi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도토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허수아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개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메아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추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의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토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뻐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서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장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몫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젊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밟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없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아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으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삶아서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rite your name, major, and address in Hangul as being pronounc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Assignmen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5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2771640" cy="569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"/>
          <p:cNvPicPr/>
          <p:nvPr/>
        </p:nvPicPr>
        <p:blipFill>
          <a:blip r:embed="rId2"/>
          <a:stretch/>
        </p:blipFill>
        <p:spPr>
          <a:xfrm>
            <a:off x="4356000" y="2133720"/>
            <a:ext cx="4496040" cy="2295360"/>
          </a:xfrm>
          <a:prstGeom prst="rect">
            <a:avLst/>
          </a:prstGeom>
          <a:ln w="0">
            <a:noFill/>
          </a:ln>
        </p:spPr>
      </p:pic>
      <p:sp>
        <p:nvSpPr>
          <p:cNvPr id="499" name="직사각형 1"/>
          <p:cNvSpPr/>
          <p:nvPr/>
        </p:nvSpPr>
        <p:spPr>
          <a:xfrm>
            <a:off x="4515480" y="40464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en.wikipedia.org/wiki/Han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5048280" cy="555300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1"/>
          <p:cNvSpPr/>
          <p:nvPr/>
        </p:nvSpPr>
        <p:spPr>
          <a:xfrm>
            <a:off x="826920" y="6091200"/>
            <a:ext cx="26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log.daum.net/hl0824/144969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5189400" y="476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"/>
          <p:cNvSpPr/>
          <p:nvPr/>
        </p:nvSpPr>
        <p:spPr>
          <a:xfrm>
            <a:off x="1116000" y="3032280"/>
            <a:ext cx="67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맑은 고딕"/>
                <a:hlinkClick r:id="rId1"/>
              </a:rPr>
              <a:t>http://www.youtube.com/watch?v=1PAd9rT2W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1203120" y="177336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Introduction to Hang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Letter Design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nsonant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Velar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a-eum "molar sounds")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k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Coron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설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seoreum "lingual sounds"):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ㄴ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l/r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ilabi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순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suneum "labi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Sibilant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치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chieum "dent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c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ors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hueum "throat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ll vowels can be represented by the combinations of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un, sky, heave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earth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umanbeings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Eg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+ •  =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,  • +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=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imple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right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ark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eo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Neutral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i="1" lang="en-US" sz="1700" spc="-1" strike="noStrike">
                <a:solidFill>
                  <a:srgbClr val="000000"/>
                </a:solidFill>
                <a:latin typeface="Corbel"/>
                <a:ea typeface="굴림"/>
              </a:rPr>
              <a:t>ŭ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mpoun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ㅐㅔㅘ ㅙ ㅚ ㅝ ㅟ ㅞ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,,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otize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 ㅕ ㅛ ㅠ ㅒ ㅖ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Berlin Sans FB"/>
                <a:ea typeface="굴림"/>
              </a:rPr>
              <a:t>Sorting order (South Korean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Initial-medial-final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ㄴ ㄷ ㄸ ㄹ ㅁ ㅂ ㅃ ㅅ ㅆ ㅇ ㅈ ㅉ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ㅐ ㅑ ㅒ ㅓ ㅔ ㅕ ㅖ ㅗ ㅘ ㅙ ㅚ ㅛ ㅜ ㅝ ㅞ ㅟ ㅠ ㅡ ㅢ ㅣ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one)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ㄳ ㄴ ㄵ ㄶ ㄷ ㄹ ㄺ ㄻ ㄼ ㄽ ㄾ ㄿ ㅀ ㅁ ㅂ ㅄ ㅅ ㅆ ㅇ ㅈ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94920" y="404280"/>
            <a:ext cx="8110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tter na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sona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755640" y="162864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니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리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미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i-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i-e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i-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i-e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i-e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-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755640" y="321300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치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키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티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피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히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-e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i-e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755640" y="4797360"/>
          <a:ext cx="7561440" cy="1706760"/>
        </p:xfrm>
        <a:graphic>
          <a:graphicData uri="http://schemas.openxmlformats.org/drawingml/2006/table">
            <a:tbl>
              <a:tblPr/>
              <a:tblGrid>
                <a:gridCol w="1008000"/>
                <a:gridCol w="1257480"/>
                <a:gridCol w="1323720"/>
                <a:gridCol w="1324080"/>
                <a:gridCol w="1324080"/>
                <a:gridCol w="132408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gi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di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bi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si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ji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owe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826920" y="2205000"/>
          <a:ext cx="7705800" cy="1755720"/>
        </p:xfrm>
        <a:graphic>
          <a:graphicData uri="http://schemas.openxmlformats.org/drawingml/2006/table">
            <a:tbl>
              <a:tblPr/>
              <a:tblGrid>
                <a:gridCol w="1224000"/>
                <a:gridCol w="462240"/>
                <a:gridCol w="669600"/>
                <a:gridCol w="668520"/>
                <a:gridCol w="668160"/>
                <a:gridCol w="669960"/>
                <a:gridCol w="668520"/>
                <a:gridCol w="668160"/>
                <a:gridCol w="668520"/>
                <a:gridCol w="669960"/>
                <a:gridCol w="668160"/>
              </a:tblGrid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nunciation Examp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ㅛ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actice (on p. 1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갸거겨고교구규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나냐너녀노뇨누뉴느니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nd so 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03T19:41:12Z</dcterms:modified>
  <cp:revision>84</cp:revision>
  <dc:subject/>
  <dc:title>KOREAN LANGUAGE</dc:title>
</cp:coreProperties>
</file>